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314D41-947D-4E72-82E5-31EA75EB0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94FE5-81F8-42E2-8E8B-3E58483D8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EE9C7-BFFF-4142-8C85-FE058E3B8B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3F79F-4318-415B-8688-E3685F97A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32645-3DDE-4F32-9EFA-3E414A117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D2863-545B-41B1-BE5D-DE3D1C87D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AC9D9-9F09-4CB0-9072-C7C3AC249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F7284-23F9-47D8-AF3D-14A2CA276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FE61B-12C5-43FF-8C7B-361824A8E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FC87C-8CBE-4360-848E-68C9A9B91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CB5D6-9F7B-4F01-839F-228EFF1D9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6691B-6F72-4C61-803C-45C0340422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CAF7F-BE35-4C11-B759-BD7CED0EF7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914400"/>
            <a:ext cx="9144000" cy="8686800"/>
          </a:xfrm>
          <a:prstGeom prst="rect">
            <a:avLst/>
          </a:prstGeom>
          <a:ln w="0">
            <a:noFill/>
          </a:ln>
        </p:spPr>
      </p:pic>
      <p:sp>
        <p:nvSpPr>
          <p:cNvPr id="44" name=""/>
          <p:cNvSpPr/>
          <p:nvPr/>
        </p:nvSpPr>
        <p:spPr>
          <a:xfrm>
            <a:off x="3809880" y="1143000"/>
            <a:ext cx="434340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Truman Capote(1924-1984) is famous as a playwright, short-story writer and novelist.  Before becoming famous Capote was born in New Orleans and raised in Monroeville Alabama.  When his mother re-married he had the opportunity to move to the big city…NYC.  His schooling through out his childhood consisted of various private institutions and public school in Greenwich Connecticu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0" y="-457200"/>
            <a:ext cx="9448920" cy="8458200"/>
          </a:xfrm>
          <a:prstGeom prst="rect">
            <a:avLst/>
          </a:prstGeom>
          <a:ln w="0">
            <a:noFill/>
          </a:ln>
        </p:spPr>
      </p:pic>
      <p:sp>
        <p:nvSpPr>
          <p:cNvPr id="48" name=""/>
          <p:cNvSpPr/>
          <p:nvPr/>
        </p:nvSpPr>
        <p:spPr>
          <a:xfrm>
            <a:off x="4038480" y="1295280"/>
            <a:ext cx="4572000" cy="3254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The Fa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Capote’s earliest works are featured in “quality” magazines in 1946.  He then moved to Europe and discovered his love for theater and this marked the beginning of playwritings for Truman Capote.  Capote worked with John Hutson to create a film titled “Beat the Devil”.  His love for journalism triggered the novel “In Cold Blood” (one of his most famous 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0" y="-457200"/>
            <a:ext cx="9448920" cy="8458200"/>
          </a:xfrm>
          <a:prstGeom prst="rect">
            <a:avLst/>
          </a:prstGeom>
          <a:ln w="0">
            <a:noFill/>
          </a:ln>
        </p:spPr>
      </p:pic>
      <p:sp>
        <p:nvSpPr>
          <p:cNvPr id="52" name=""/>
          <p:cNvSpPr/>
          <p:nvPr/>
        </p:nvSpPr>
        <p:spPr>
          <a:xfrm>
            <a:off x="3962520" y="1600200"/>
            <a:ext cx="396216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Post ICB:</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Capote adopted problems with alcohol and drugs.  This addiction lead to his end.  Capote lost all creative juices and began disputing with other writers.  He lost most of his friends, including Harper Lee, and eventually died in Los Angelos August 26, 1984.</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1T11:23:56Z</dcterms:created>
  <dc:creator> </dc:creator>
  <dc:description/>
  <dc:language>en-US</dc:language>
  <cp:lastModifiedBy> </cp:lastModifiedBy>
  <dcterms:modified xsi:type="dcterms:W3CDTF">2008-10-01T11:33:29Z</dcterms:modified>
  <cp:revision>1</cp:revision>
  <dc:subject/>
  <dc:title>Slide 1</dc:title>
</cp:coreProperties>
</file>